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A2E-1F94-4932-99C5-DFC7FF43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D51-CB67-478C-9C43-2D0F6046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CEF-B77B-4C2A-A3B8-B1F5EDF3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924-7493-4CAC-A30C-89AA641F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663F-E21C-47DC-9BBC-1FB30C46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5091-0F27-4C69-9C86-F540215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3A1E-1B3A-460A-8935-E00F9E43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FC4D-7292-45D6-9659-C35BABC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7745-72A0-42A1-B72F-5B03EA2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F658-D532-4146-9050-794FA437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AA3C-A880-428A-BDE8-DD46C9A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692-A6C4-46EE-A1B8-65FF4B2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A862-A390-4AE8-AF59-3238B8A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03F1-FAC5-49C6-8E8C-4750A3F4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73B7-CBB2-4C4B-A1A8-272384F6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4FB-505F-4CFD-B53D-E20FC860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214-3040-4342-BE5A-71465C75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1FB4-2CE0-410C-8082-922EE5E7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85B4-F515-482D-B1F5-E3711377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FBFB-7429-4AF8-A0B0-9A1F7848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A350-3F95-4DBC-B4CE-A75A83C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91DB-BC4B-41E2-B3CC-790B34D9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3BF-64B8-4C5A-8A58-839EF10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E20D-B39F-4C06-9E4F-74D118A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97B4-862A-4996-B832-5D2E526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C25B-1649-46B0-AB64-924B73C1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CFA5-6262-46B1-97A6-FAD1D3A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2F6F-0877-4518-8561-1748392E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89A2-BAE2-42AD-BF9D-1B8B879C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FB07-31FD-49EF-8C85-4D38B5CB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579A-203A-425F-B3D5-F478B1D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2A20-2E45-499D-A746-037956EA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2E04-7AB6-4FF7-BCD7-91BF457E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6C2-A622-4022-95D6-08D7A39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36095-3AD6-420A-A719-6F4999C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DB60-A090-4206-A932-F71A360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2789-811C-4C74-9EAC-42E1234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5873-F0D0-4EC5-9D33-C2089D64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A598-D356-43C2-8908-CCBD1E6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BEBB-10C0-42FB-B41F-31278F6E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3315-674D-48BF-A1D8-8EC47C5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94990-8BA9-4C3C-AAAA-03FB5DAA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5994-12B4-400D-BEF3-C4BFF55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E08-94DD-4F54-BFB0-08445D41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79E-0E39-4513-88FE-1AD272ED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C8C-C7B3-4903-B2B7-0B734A81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B79-F890-49F7-8CA6-4C7F4D8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BE5-F701-4A59-B72A-35555FC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385-1975-4E71-8C09-14598E5FE3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E2E-A488-46A0-BA56-6E05579D89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AA3-3F9B-464F-ABE4-9416F9986ED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2E42-92FD-4DE1-A8E3-BACB435425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DB - Week 1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Introduction to Databas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information in the table in easy-read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hing like pivot tables in Ex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70E-9355-429F-BEEF-D22E4EE33B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tent Placeholder 6" descr="1.jpg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C81-E3E5-47E8-B573-22FDB887F0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ress Bo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Content Placeholder 6" descr="2.bmp"/>
          <p:cNvPicPr/>
          <p:nvPr/>
        </p:nvPicPr>
        <p:blipFill>
          <a:blip r:embed="rId1"/>
          <a:stretch/>
        </p:blipFill>
        <p:spPr>
          <a:xfrm>
            <a:off x="533520" y="1828800"/>
            <a:ext cx="7100640" cy="3657600"/>
          </a:xfrm>
          <a:prstGeom prst="rect">
            <a:avLst/>
          </a:prstGeom>
          <a:ln w="0">
            <a:noFill/>
          </a:ln>
        </p:spPr>
      </p:pic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084-4046-469B-8126-DEAF394FA1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609480" y="5791320"/>
            <a:ext cx="77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ook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ID:ke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, Lastname, Email, Birthda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6" descr="3.bmp"/>
          <p:cNvPicPr/>
          <p:nvPr/>
        </p:nvPicPr>
        <p:blipFill>
          <a:blip r:embed="rId1"/>
          <a:stretch/>
        </p:blipFill>
        <p:spPr>
          <a:xfrm>
            <a:off x="380880" y="7621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2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E1E-ED69-4A1B-897B-D722C0600A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are Spreadsheets not sufficien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ata with up to hundred thousands reco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edit a specific recor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search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to understand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3814-CF7B-4F47-B824-784A1BD19C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probl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ity:  string of how many character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to typing Err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algary, Calagary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D85B-60C5-46A2-8463-15F2CDED58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45EF-FE24-417A-BF59-3A4C8FF0B26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172200" y="1371600"/>
          <a:ext cx="2133720" cy="366408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</a:tblGrid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ta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l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i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3520" y="1219320"/>
          <a:ext cx="5041800" cy="4714920"/>
        </p:xfrm>
        <a:graphic>
          <a:graphicData uri="http://schemas.openxmlformats.org/drawingml/2006/table">
            <a:tbl>
              <a:tblPr/>
              <a:tblGrid>
                <a:gridCol w="1977840"/>
                <a:gridCol w="1532160"/>
                <a:gridCol w="15318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2" name="Straight Arrow Connector 9"/>
          <p:cNvCxnSpPr/>
          <p:nvPr/>
        </p:nvCxnSpPr>
        <p:spPr>
          <a:xfrm flipV="1">
            <a:off x="5562360" y="2208960"/>
            <a:ext cx="610200" cy="3819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3" name="TextBox 10"/>
          <p:cNvSpPr/>
          <p:nvPr/>
        </p:nvSpPr>
        <p:spPr>
          <a:xfrm>
            <a:off x="1902240" y="60199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69274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cross referenc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 of using a string of 20 characters (city) in hundred of thousands of  records (Employees), I used only 2 characters (City I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storage sp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ives more speed in searching as we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allow typing err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es can be usually provided using combo bo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way used when you fill your profile while making new email or new accou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remember how to implement this in Exce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B0B-3A79-48B4-8CE3-5535A3931C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!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ant to make another table for Employee’s salary, what is the best reference to Employee tabl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, name, phone, address, city, or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61FA-7E16-405C-A4AB-FC2039F6A3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AD1A-848E-4181-BC03-1CD8C96704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743200" y="1676520"/>
          <a:ext cx="4876920" cy="4714920"/>
        </p:xfrm>
        <a:graphic>
          <a:graphicData uri="http://schemas.openxmlformats.org/drawingml/2006/table">
            <a:tbl>
              <a:tblPr/>
              <a:tblGrid>
                <a:gridCol w="1913040"/>
                <a:gridCol w="1482480"/>
                <a:gridCol w="148140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hley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sia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na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i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ole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orge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a 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9" name="Straight Arrow Connector 9"/>
          <p:cNvCxnSpPr/>
          <p:nvPr/>
        </p:nvCxnSpPr>
        <p:spPr>
          <a:xfrm flipV="1">
            <a:off x="1980000" y="2971440"/>
            <a:ext cx="7628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11"/>
          <p:cNvCxnSpPr/>
          <p:nvPr/>
        </p:nvCxnSpPr>
        <p:spPr>
          <a:xfrm>
            <a:off x="1905120" y="3809520"/>
            <a:ext cx="838800" cy="839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1" name="TextBox 12"/>
          <p:cNvSpPr/>
          <p:nvPr/>
        </p:nvSpPr>
        <p:spPr>
          <a:xfrm>
            <a:off x="540720" y="3733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"/>
          <p:cNvCxnSpPr/>
          <p:nvPr/>
        </p:nvCxnSpPr>
        <p:spPr>
          <a:xfrm flipH="1">
            <a:off x="3733560" y="1294200"/>
            <a:ext cx="3816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>
            <a:off x="4114440" y="1294920"/>
            <a:ext cx="106740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4" name="Straight Arrow Connector 20"/>
          <p:cNvCxnSpPr/>
          <p:nvPr/>
        </p:nvCxnSpPr>
        <p:spPr>
          <a:xfrm>
            <a:off x="4114800" y="1294920"/>
            <a:ext cx="2363040" cy="3056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5" name="TextBox 21"/>
          <p:cNvSpPr/>
          <p:nvPr/>
        </p:nvSpPr>
        <p:spPr>
          <a:xfrm>
            <a:off x="3967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23"/>
          <p:cNvCxnSpPr/>
          <p:nvPr/>
        </p:nvCxnSpPr>
        <p:spPr>
          <a:xfrm flipH="1">
            <a:off x="2970000" y="1068120"/>
            <a:ext cx="3600" cy="6102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7" name="TextBox 24"/>
          <p:cNvSpPr/>
          <p:nvPr/>
        </p:nvSpPr>
        <p:spPr>
          <a:xfrm>
            <a:off x="2445480" y="838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information about the da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living in Calga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all employees with salary &gt; 5000$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429F-35BD-4715-81B6-E02C736479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editing information in tables easi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he form that appears to you when you want to edit your profil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9/02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DB- Week1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0211-69AF-442E-B3CA-537BA88314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9T15:27:12Z</dcterms:modified>
  <cp:revision>136</cp:revision>
  <dc:subject/>
  <dc:title>CPSC 203</dc:title>
</cp:coreProperties>
</file>